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5B3-339B-48AD-8CA1-59207BBD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3C1-0238-4674-A219-0B7FBB5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87D-3C25-4B50-B7A7-3203AAC9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B69-133C-465A-8CA9-914CB2F0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C46-DB5F-474B-8616-8419342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F68-7ACC-44CB-BE5F-8EF43AC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7A7-BADD-4D1E-9856-37E37C0C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8E2-5FAA-44DB-96B8-2CBFB39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1BD-CA96-4F52-A58A-CD84DB82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179-033E-47AF-90E8-5BAE7974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71A-17C6-4BD6-9949-130F203F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89A-14FE-4897-8B2C-F75E4111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A03-BD8C-425B-ABD0-0020ABE1C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ur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Εικόνα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-106200"/>
            <a:ext cx="9753480" cy="726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143000" y="228600"/>
            <a:ext cx="609480" cy="563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" y="5605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cc3300"/>
                </a:solidFill>
                <a:latin typeface="Arial"/>
              </a:rPr>
              <a:t>ΕΛΛΗΝΙΚΗ ΔΗΜΟΚΡΑΤΙΑ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cc3300"/>
                </a:solidFill>
                <a:latin typeface="Arial"/>
              </a:rPr>
              <a:t>ΥΠΟΥΡΓΕΙΟ ΠΑΙΔΕΙΑΣ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cc3300"/>
                </a:solidFill>
                <a:latin typeface="Arial"/>
              </a:rPr>
              <a:t>ΔΙΑ ΒΙΟΥ ΜΑΘΗΣΗΣ ΚΑΙ ΘΡΗΣΚΕΥΜΑΤΩΝ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cc3300"/>
                </a:solidFill>
                <a:latin typeface="Arial"/>
              </a:rPr>
              <a:t>ΠΕΡΙΦΕΡΕΙΑΚΗ ΔΙΕΥΘΥΝΣΗ Π.Ε. &amp; Δ.Ε. ΑΤΤΙΚΗ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cc3300"/>
                </a:solidFill>
                <a:latin typeface="Arial"/>
              </a:rPr>
              <a:t>ΓΡΑΦΕΙΟ ΣΧΟΛΙΚΩΝ ΣΥΜΒΟΥΛΩΝ Δ.Δ.Ε. Β΄ ΑΘΗΝΑΣ</a:t>
            </a:r>
            <a:r>
              <a:rPr b="1" lang="en-US" sz="9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cc3300"/>
                </a:solidFill>
                <a:latin typeface="Arial"/>
              </a:rPr>
              <a:t>Σχολικός Σύμβουλος Φυσικής Αγωγή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514600" y="2819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Επιμορφωτική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ημερίδ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33520" y="3351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Η Φωνή στην Εκπαίδευση: υγεία ή αναγκαιότητ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733920" y="44956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Τετάρτη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 Νοεμβρίου 2011, ώρα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8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Γερμανική Σχολή Αθην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cc3300"/>
                </a:solidFill>
                <a:latin typeface="Arial"/>
              </a:rPr>
              <a:t>Δημοκρίτου και Ζηρίδη,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cc3300"/>
                </a:solidFill>
                <a:latin typeface="Arial"/>
              </a:rPr>
              <a:t>Παράδεισος Αμαρουσί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97360" y="6126480"/>
            <a:ext cx="431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cc3300"/>
                </a:solidFill>
                <a:latin typeface="Arial"/>
              </a:rPr>
              <a:t>Συνδιοργάνωσ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cc3300"/>
                </a:solidFill>
                <a:latin typeface="Arial"/>
              </a:rPr>
              <a:t>Σχολικός Σύμβουλος Φυσικής Αγωγής Β΄Αθήν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cc3300"/>
                </a:solidFill>
                <a:latin typeface="Arial"/>
              </a:rPr>
              <a:t>Γερμανική Σχολή Αθηνώ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4420440" y="540936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Ελεύθερη συμμετοχή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4"/>
          <a:stretch/>
        </p:blipFill>
        <p:spPr>
          <a:xfrm>
            <a:off x="7467480" y="609480"/>
            <a:ext cx="1486080" cy="1173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2793960" y="380916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Για όλους τους εκπαιδευτικού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urt2"/>
          <p:cNvPicPr/>
          <p:nvPr/>
        </p:nvPicPr>
        <p:blipFill>
          <a:blip r:embed="rId1"/>
          <a:stretch/>
        </p:blipFill>
        <p:spPr>
          <a:xfrm>
            <a:off x="-53352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609480" y="-4680"/>
            <a:ext cx="822960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Arial"/>
              </a:rPr>
              <a:t>ΟΡΓΑΝΩΤΙΚΗ ΕΠΙΤΡΟΠ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Βασίλειος Τόλιας, Διευθυντής Λυκείου Γερμανικής Σχολής Αθηνώ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Χρήστος Κωνσταντινίδης,Υποδιευθυντής Γυμνασίου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Γερμανικής Σχολής Αθηνών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Θεμιστοκλής Μακαντάσης, Σχολικός Σύμβουλος Μουσική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Κοτροκόης, Μαέστρος-Συνθέτης-Εκπαιδευτής Φωνής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Ιωάννα Καζάνη, Παιδοψυχίατρος, Διευθύντρια Ε.Σ.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Κυριακή Μαύρου, Διευθύντρια Γυμνασίου Θρακομακεδόνων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Τριπόδης, Σχολικός Σύμβουλος Φυσικής Αγωγ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Arial"/>
              </a:rPr>
              <a:t>ΕΠΙΣΤΗΜΟΝΙΚΗ ΕΠΙΤΡΟΠ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Κώστας Λαμπρόπουλος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Ωτορινολαρυγγολόγος-Φωνίατρ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Θεμιστοκλής Μακαντά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Κοτροκό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Ευάγγελος Κουδιγκέλης, Ορθοπαιδικός χειρούρ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Ιωάννα Καζάν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Ελένη Γιαννοπούλου, Εκπαιδευτικός Μουσικ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Τριπόδ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Arial"/>
              </a:rPr>
              <a:t>ΕΙΣΗΓΗΤΕ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Δρ Νικόλαος Τριπόδ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Δρ Κώστας Λαμπρόπου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Δρ Ευάγγελος Κουδιγκέλ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Δρ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Θεόδωρος Μπούρχας, Ωτορινολαρυγγολό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Κοτροκόης,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Δημήτριος Μπεγιόγλου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Sc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, Κλινικός ψυχολόγος-Ηθοποιό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Φλώρα Αναγνώστου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Sc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, Λογοθεραπεύτρια-Φωνοθεραπεύτρια-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κοολόγο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Θεμιστοκλής Μακαντάσης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M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ur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04920" y="28080"/>
            <a:ext cx="861048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Arial"/>
              </a:rPr>
              <a:t>ΠΡΟΓΡΑΜΜ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8.00-18.30 Εγγραφέ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Arial"/>
              </a:rPr>
              <a:t>Α΄ Μέρο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8.30-18.45  Χαιρετισμο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8.45-19.00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Τα χρώματα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Τριπόδ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9.00-19.15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Ανατομία της φωνής-κίνδυνοι-πρόληψη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Κώστας Λαμπρόπουλο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9.15-19.30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Ο μηχανισμός της αναπνοής και η ορθοπαιδική υποστήριξη της φωνής στην εκφορ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του λόγου και στο τραγούδι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Ευάγγελος Κουδιγκέλη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9.30-19.45  Χορωδί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19.45-20.00  Διάλειμμα, καφέ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00"/>
                </a:solidFill>
                <a:latin typeface="Arial"/>
              </a:rPr>
              <a:t>Β΄ Μέρο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20.00-20.15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Παθήσεις-Φάρμακα και η επίδραση τους στην φωνή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Θεόδωρος Μπούρχας,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20.15-20.30</a:t>
            </a:r>
            <a:r>
              <a:rPr b="0" lang="el-GR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Τεχνική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της φώνησης-υγεία της φωνής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Κοτροκό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20.30-20.45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Κατάχρηση της φωνής στους εκπαιδευτικούς: μία ολιστική προσέγγιση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Δημήτριος Μπεγιόγλο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20.45-21.00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Φωνοθεραπεία και υγιεινή φωνή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Φλώρα Αναγνώστο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21.00-21.15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Η τοποθέτηση της φωνής του εκπαιδευτικού ως μέσ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 για την ανάπτυξη της ευφυΐα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ffff00"/>
                </a:solidFill>
                <a:latin typeface="Arial"/>
              </a:rPr>
              <a:t>του μαθητή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 Θεμιστοκλής Μακαντάσ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21.15-21.30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Χορωδ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Λήξη ημερίδ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Θα δοθούν βεβαιώσεις συμμετοχή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Νικόλαος Χρ. Τριπόδ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Σχολικός Σύμβουλος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ffff00"/>
                </a:solidFill>
                <a:latin typeface="Arial"/>
              </a:rPr>
              <a:t>Φυσικής Αγωγ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odis</cp:lastModifiedBy>
  <dcterms:modified xsi:type="dcterms:W3CDTF">2011-10-24T04:39:27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