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DE7-634C-4E76-9DCA-45BE30BD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430-1425-4F0B-8CB2-2A18782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124-716B-4C6D-B6D9-FE32AB88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E24-D7C5-401D-97D9-AFD0B629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9BA-2E21-4EFB-B00A-22ABC013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90F-03E4-40B8-A551-22EBDEA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7CD-6039-4E33-A517-DB4A87C8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EEC-CE3E-4799-BCDB-EE9CC69E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E42-67D8-4A04-8568-BCD5402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AC4-EAE8-4130-85BD-45687A4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279-7377-45A3-87F3-D58271D6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119-17FD-4EE6-8F86-D2DEFCE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909D-735F-4D94-B3E7-8B1011763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Εικόνα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06200"/>
            <a:ext cx="9753480" cy="7262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989280"/>
            <a:ext cx="82296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Monotype Corsiva"/>
              </a:rPr>
              <a:t>Πρόσκλ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Ο Σχολικός Σύμβουλος Φυσικής Αγωγής Β΄ Διευθύνσεων Αθήνα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κ. Νικόλαος Τριπόδης σας προσκαλεί σε ημερίδα με θέμ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«Η Φωνή στην Εκπαίδευση: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υγεία ή αναγκαιότητα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?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την Τετάρτη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 Νοεμβρίου 2011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και ώρα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18.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Η ημερίδα θα πραγματοποιηθεί με τη συνεργασία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της Γερμανική Σχολή Αθην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στο Αμφιθέατρο της Γερμανική Σχολή Αθηνώ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Δημοκρίτου και Ζηρίδη,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Παράδεισος Αμαρουσί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Monotype Corsiva"/>
              </a:rPr>
              <a:t>Τηλ. επικοινωνίας: 210 6399275 - 210 63922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odis</cp:lastModifiedBy>
  <dcterms:modified xsi:type="dcterms:W3CDTF">2011-10-20T13:36:4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